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.png" ContentType="image/png"/>
  <Override PartName="/ppt/media/image9.jpeg" ContentType="image/jpeg"/>
  <Override PartName="/ppt/media/image3.pct" ContentType="image/x-pict"/>
  <Override PartName="/ppt/media/image13.pct" ContentType="image/x-pict"/>
  <Override PartName="/ppt/media/image8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22.png" ContentType="image/png"/>
  <Override PartName="/ppt/media/image21.png" ContentType="image/png"/>
  <Override PartName="/ppt/media/image19.png" ContentType="image/png"/>
  <Override PartName="/ppt/media/image16.pct" ContentType="image/x-pict"/>
  <Override PartName="/ppt/media/image17.png" ContentType="image/png"/>
  <Override PartName="/ppt/media/image14.pct" ContentType="image/x-pict"/>
  <Override PartName="/ppt/media/image15.pct" ContentType="image/x-pict"/>
  <Override PartName="/ppt/media/image18.png" ContentType="image/png"/>
  <Override PartName="/ppt/media/image20.png" ContentType="image/png"/>
  <Override PartName="/ppt/media/image7.jpeg" ContentType="image/jpeg"/>
  <Override PartName="/ppt/media/image4.pct" ContentType="image/x-pict"/>
  <Override PartName="/ppt/media/image2.jpeg" ContentType="image/jpeg"/>
  <Override PartName="/ppt/media/image23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1D5-9823-4A1A-B2FA-E55817D5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7DB-CF7F-4D60-A651-4E39E48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457-04CE-4FB4-81A1-1DC23F0B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C53-E89A-4663-AA2F-D5F2E4AF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C30-F0E5-43A1-A9BE-BEE4243B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CA4-B92D-4BE9-9C37-D06C3B2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4E6-D95D-4700-B16E-991F5E6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3F8-92F2-4934-B6EC-AEF32DE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0CA-EA48-4921-89F6-1528B63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ECF-0933-49A9-AAB0-C35973D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3CF-ED69-42BB-8183-4F466A45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95F-532C-4C11-BB91-EF1AE184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2920-507E-49F4-96BD-E10F0F13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Practice Ti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Brief Review of Bloom's Taxonom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0" name="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29" name="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SQ4R-Writing to Learn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438" name="survey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39" name="question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40" name="read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41" name="recite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42" name="rite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43" name="review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1920960" cy="206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2" name="concept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66680" y="473040"/>
            <a:ext cx="7813800" cy="295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371600" y="3657600"/>
            <a:ext cx="6858000" cy="22269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of each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sequesntial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CIS</cp:lastModifiedBy>
  <cp:lastPrinted>2002-07-22T19:08:22Z</cp:lastPrinted>
  <dcterms:modified xsi:type="dcterms:W3CDTF">2002-07-26T19:09:07Z</dcterms:modified>
  <cp:revision>149</cp:revision>
  <dc:subject/>
  <dc:title>PowerPoint Presentation</dc:title>
</cp:coreProperties>
</file>